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F7D-B6B8-44E2-88F8-C506FA05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5B0-148A-432F-B81E-E16BF9CE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8C9-E8F0-43BF-840E-A65F5176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D97-48FF-4A8B-B079-399F4241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76D-3002-49E1-B948-1F330416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9CE-E882-4419-A453-73DAC058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97F-199A-42E4-AAD9-F85CA52A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0A0-8E48-42DA-8D80-C9FC4F05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E46-0EFA-46EB-9304-21A52F16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2C7-8DB0-4A9A-8642-1BEB7926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EE4-142D-46CC-A0A7-ABED3413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F29-AF45-4E7A-BB8C-6A3B81C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586B-DC9E-40DF-8E37-5692FCDDF7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200" y="6202440"/>
            <a:ext cx="40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orldofteaching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7C29-8B9A-4434-A83A-DA7AD81876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AA44-2DB1-49F9-BC5F-3420B46550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4281-62E5-4FE6-B348-F47D18030A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F5D2-8637-4179-AECE-4617C3378C7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quare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1295-CE35-4E94-A1BF-10A6418CD3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tha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 many squares fit inside that shape (if measured in feet…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 feet…if meters…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679F-4432-4263-9BBC-0D9A8F4C1B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765A-5D70-4803-9AC4-F9A848BCC7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4976-1787-4A7D-BD37-D07F2E1C18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722-2E6D-421B-82CA-91FB2F9C416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9F65-01F7-4DD6-970F-CB0086BA31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268B-6350-4B62-9CC9-F9FE0F35E8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6CD3-8C14-43D4-B7F7-0F43C65509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 ½ because ½ of the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quar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12FB-47D9-4E6D-B947-35D4F2A85D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5BA6-9EC7-403C-A46D-0EEBD84AEE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9CCB-89EA-4681-A067-78B9323D4F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9EC-DCED-4C89-B6A6-888CD2BC05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03F0-8C60-405B-830A-D98E66C04B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2F7-2EA7-4166-86C8-F02BB4ABF9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0EA7-8602-4BC8-AC7A-46C6F557FE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ach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line segment of the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enc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EABA-B545-43E3-BADF-CB437B22CC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0D07-D754-49A1-A8E9-7727E00BF2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5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1D35-07AA-4717-983F-04D6FA8D07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49C3-151C-41F7-A1F1-13D2EA87DA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a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7A55-4B64-4696-8C52-6E99732FBF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ashleigh.stone Stone</cp:lastModifiedBy>
  <dcterms:modified xsi:type="dcterms:W3CDTF">2012-03-10T16:11:17Z</dcterms:modified>
  <cp:revision>15</cp:revision>
  <dc:subject/>
  <dc:title>Formulas for Geometry</dc:title>
</cp:coreProperties>
</file>